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7F1A-A50F-4769-B737-5B536A6CD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5F10-D76D-4007-AD6F-365D5FB3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E2DA-A40A-4EFA-B47F-19FFF1E8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7134-918A-422E-A204-F136FF3FC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A500-3809-46B1-9110-19522EAE3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8290-62D1-4664-8277-7C28EA69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960A-0430-4C9C-844C-7AF6D10E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A73E-A3A3-4E50-B7B6-590737B6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74A9-47EC-41FF-B992-93FF6F8A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B3BC-C03C-4861-BD2D-7769C578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C122-7422-4AA3-A998-B248A81E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542-CE64-4768-9D65-A3512DA5D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481BA-FDCF-4301-BCBD-34978F87C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52825-BC59-42B2-825C-897E2218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E8CD-C79C-40A4-B5DA-1DE8A874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84EC-DF65-4CB2-88F2-CCAC1C30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BB088-76C2-491F-AA61-3DC733085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9838B6-46ED-494D-AFF9-43B2C53FB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B9D1C5-6411-41AD-A697-545B1118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199B0C-D11A-4CE1-9CAA-02CB582A1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4431B-1129-4BE1-AFA1-6774C5433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B0BD8-9C3B-4C7A-8386-F0FA5A2C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2AF7-0146-4AAD-BB4F-F403FBE8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5F7EDD-3FC2-4E3B-B42F-72F97347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278A8B-F5E5-4B83-B241-8151E86B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C48070-0448-427D-8EF5-4075DEED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B96CD0-A7BC-43A8-ADD0-687A1137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10614A-8E7A-4DEC-B79F-D855C8F45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35CC7C-F868-48D0-8A85-3ED56923E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52A102-AFC6-46B2-997B-F930A985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D341B-41D7-41CA-B00E-1CD5E7BFD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FD0E17-2F0A-4295-8800-C374E1D5C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21090C-A99B-42DF-A3F8-04A23ABC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1A19-C6E2-4001-AA4A-B3BDCC769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06F264-7CE4-41E3-82CC-C908E201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9F907-D85B-4D47-B03C-B3AE4CB9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156CF-B6A5-4161-935F-AF3D5C8D1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C6BED-BE58-4CED-AE36-64C703670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C6362-C302-4481-9F73-0ED4895A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AC3E-056F-4352-B823-256B776E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066EB4-ACFE-4648-BF1B-588626DF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26507-84AA-4AA8-B63D-36A0EBBA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1A62D-3C25-4F88-B1DF-09EECC815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249D3-35B5-40FF-B813-9A86DF72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215-C4A4-4C96-A8B6-7D58A47BC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B1060-E430-4120-9C70-4256CE1D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1BF98-7B76-4DE3-997F-9923E93AB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0A2B-88C9-457B-BF1E-44217204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F322B-358E-4BFD-A3A3-31500C97D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705E04-95C5-4D6E-8124-A98031C2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325F9-B209-4FD4-9F2D-40238475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ACB2F3-934A-4149-A3ED-487AD48D9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6D93-D948-49D4-9017-44B394328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F561C-F83A-4E5B-8BE5-ED29DEC35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8408E-9C06-4C4E-BD6B-00D73588B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341E-5740-4AC8-BD84-D12933EE3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E0FE5-BCBC-4C68-88AA-CF1756219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AD2C1-264C-458F-9D70-C8CBE4BDC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69B587-FE8C-4F09-94CA-65106FE22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0C461-1E65-47DC-80AF-39D7AD745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E17E36-4023-4CB3-ADF6-BFE8FF85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983F3-0A91-4167-928E-31226765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7CEFF-EB22-4525-9949-4D0A6BF7F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89518-5D68-4806-BA61-704AAA247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47F08-D66B-4690-9215-279DD94C0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C33C3-61ED-4D6B-8F7C-BBFF61FC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0B0-31F0-49BD-9732-E05D44CF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62A181-3425-49C6-8746-81750B310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12D65B-BD0A-4261-B6DC-BDBB4C223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7EF688-FB39-4740-AD09-36DAE9E76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AD4A-E843-43A1-BBF0-B53BAF0F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3234-8036-496F-8660-E0DD431B7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8E31B-41EA-4826-A0BB-34394EA0102B}" type="slidenum">
              <a:rPr b="0" lang="en-S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9063-B574-495D-98ED-2E0DF5682BC8}" type="slidenum">
              <a:rPr b="0" lang="en-S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D584-AAC0-4BD6-83F3-F4C8D54DD1F7}" type="slidenum">
              <a:rPr b="0" lang="en-S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BAA09-0B58-44E1-A7D8-0F98EE3EE3E4}" type="slidenum">
              <a:rPr b="0" lang="en-S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6DBE3-025F-4505-93DA-A966A1FAF0AE}" type="slidenum">
              <a:rPr b="0" lang="en-S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C3A67-9B44-4D70-945B-3ADDD0C2E9EA}" type="slidenum">
              <a:rPr b="0" lang="en-SG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texas.edu/academic/diia/assessment/iar/students/plan/method/exams-mchoice-write.php" TargetMode="External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QCP 522 Teaching of Physics III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Georgia"/>
              </a:rPr>
              <a:t>Marking Scheme &amp;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336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8989"/>
                </a:solidFill>
                <a:latin typeface="Georgia"/>
              </a:rPr>
              <a:t>Evaluating Students’ Answers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502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mple Answer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)  4.0 + 4.0 = 8.0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i)  1.5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buClr>
                <a:srgbClr val="a04da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34800" y="502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mple Answer 3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)   1/4 + 1/4 = 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 = 2.0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i) I = V/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12/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6.0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41360" y="4870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mple Answer 4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) 1/4 + 1/4 = 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 = 2.0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i) I = V/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12 / 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1.5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80880" y="502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mple Answer 5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) 1/4 + 1/4 = 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 = 2.0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i) I = VR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12/2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6.0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502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mple Answer 6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) 1/4 + 1/4 = ½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R = 2.0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i) I = 6.0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96720" y="5029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rithmetic erro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74320" y="1852200"/>
            <a:ext cx="842796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rong answer because of arithmetic error will lose one mark (the final A mark)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s can arise from errors due to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Factors of ten (e.g., mistaking 10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9 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 for x10</a:t>
            </a:r>
            <a:r>
              <a:rPr b="0" lang="en-US" sz="2600" spc="-1" strike="noStrike" baseline="30000">
                <a:solidFill>
                  <a:srgbClr val="438086"/>
                </a:solidFill>
                <a:latin typeface="Georgia"/>
              </a:rPr>
              <a:t>4</a:t>
            </a: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Misunderstanding SI prefixes (e.g., kg instead of g)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lvl="1" marL="630720" indent="-2361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  <a:p>
            <a:pPr marL="350280" indent="-24516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oes </a:t>
            </a:r>
            <a:r>
              <a:rPr b="1" lang="en-US" sz="2800" spc="-1" strike="noStrike">
                <a:solidFill>
                  <a:srgbClr val="000000"/>
                </a:solidFill>
                <a:latin typeface="Georgia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apply where a factor of ten arises due to conceptual erro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30720" indent="-236160">
              <a:lnSpc>
                <a:spcPct val="9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38086"/>
                </a:solidFill>
                <a:latin typeface="Georgia"/>
              </a:rPr>
              <a:t>E.g., W = m/g or m = 20 N</a:t>
            </a:r>
            <a:endParaRPr b="0" lang="en-US" sz="26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5040" y="441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ignificant Numb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26960" y="1623600"/>
            <a:ext cx="8229600" cy="43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nswers to be given to at least two significant figures, unless specifically stated on the mark scheme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 1: R = 4.0 + 4.0 = 8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 2: R = 8 + 1.1 = 9.1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xample 3: I = 12/8 = 2 C or 1.5 mJ or 0.7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TextBox 4"/>
          <p:cNvSpPr/>
          <p:nvPr/>
        </p:nvSpPr>
        <p:spPr>
          <a:xfrm>
            <a:off x="5969520" y="341316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rong s.f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 for answer 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5915520" y="42829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ct coz 8 is exac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-1 for answer 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6"/>
          <p:cNvSpPr/>
          <p:nvPr/>
        </p:nvSpPr>
        <p:spPr>
          <a:xfrm>
            <a:off x="2955960" y="58024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rong answer, wrong sf, wrong unit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-1 for answer mar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mple Question C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62" name="Picture 4" descr=""/>
          <p:cNvPicPr/>
          <p:nvPr/>
        </p:nvPicPr>
        <p:blipFill>
          <a:blip r:embed="rId1"/>
          <a:stretch/>
        </p:blipFill>
        <p:spPr>
          <a:xfrm>
            <a:off x="428760" y="1157400"/>
            <a:ext cx="8329320" cy="5616360"/>
          </a:xfrm>
          <a:prstGeom prst="rect">
            <a:avLst/>
          </a:prstGeom>
          <a:ln w="0">
            <a:noFill/>
          </a:ln>
        </p:spPr>
      </p:pic>
      <p:pic>
        <p:nvPicPr>
          <p:cNvPr id="363" name="Picture 5" descr=""/>
          <p:cNvPicPr/>
          <p:nvPr/>
        </p:nvPicPr>
        <p:blipFill>
          <a:blip r:embed="rId2"/>
          <a:stretch/>
        </p:blipFill>
        <p:spPr>
          <a:xfrm>
            <a:off x="227160" y="5396040"/>
            <a:ext cx="8916840" cy="1003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64" name="Rectangle 5"/>
          <p:cNvSpPr/>
          <p:nvPr/>
        </p:nvSpPr>
        <p:spPr>
          <a:xfrm>
            <a:off x="228600" y="426960"/>
            <a:ext cx="82296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mple Question C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4" descr=""/>
          <p:cNvPicPr/>
          <p:nvPr/>
        </p:nvPicPr>
        <p:blipFill>
          <a:blip r:embed="rId1"/>
          <a:stretch/>
        </p:blipFill>
        <p:spPr>
          <a:xfrm>
            <a:off x="225360" y="1949400"/>
            <a:ext cx="8918640" cy="304344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mple Question D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67" name="Picture 6" descr=""/>
          <p:cNvPicPr/>
          <p:nvPr/>
        </p:nvPicPr>
        <p:blipFill>
          <a:blip r:embed="rId2"/>
          <a:stretch/>
        </p:blipFill>
        <p:spPr>
          <a:xfrm>
            <a:off x="0" y="3021120"/>
            <a:ext cx="9144000" cy="13208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51000" y="410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mple Question 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69" name="Picture 4" descr=""/>
          <p:cNvPicPr/>
          <p:nvPr/>
        </p:nvPicPr>
        <p:blipFill>
          <a:blip r:embed="rId1"/>
          <a:stretch/>
        </p:blipFill>
        <p:spPr>
          <a:xfrm>
            <a:off x="888840" y="1258920"/>
            <a:ext cx="7494840" cy="39355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5" descr=""/>
          <p:cNvPicPr/>
          <p:nvPr/>
        </p:nvPicPr>
        <p:blipFill>
          <a:blip r:embed="rId2"/>
          <a:stretch/>
        </p:blipFill>
        <p:spPr>
          <a:xfrm>
            <a:off x="0" y="5183280"/>
            <a:ext cx="8869320" cy="86976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"/>
          <p:cNvPicPr/>
          <p:nvPr/>
        </p:nvPicPr>
        <p:blipFill>
          <a:blip r:embed="rId3"/>
          <a:stretch/>
        </p:blipFill>
        <p:spPr>
          <a:xfrm>
            <a:off x="0" y="5937120"/>
            <a:ext cx="8955000" cy="676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Key Areas …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26960" y="22352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tructing a marking sche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spcBef>
                <a:spcPts val="300"/>
              </a:spcBef>
              <a:buClr>
                <a:srgbClr val="a04da3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valuating students’ answers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ctivity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Georgia"/>
              </a:rPr>
              <a:t>Constructing Marking Sche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504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Issues to consider when constructing marking scheme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17680" y="1822320"/>
            <a:ext cx="8229600" cy="503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tting a standar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01800" indent="-6098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Alteration of marking scheme to alter the difficulty/ease of paper without changing questions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01800" indent="-6098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Deciding what is acceptable and what is not (not just about what is right or wrong)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2" marL="116676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3548a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Norm reference vs critierion reference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1" marL="901800" indent="-6098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Reliable and discriminating assessment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01800" indent="-6098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Identifying which grade rank students can score the mark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lvl="1" marL="901800" indent="-6098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Other consideratio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1" marL="901800" indent="-60984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8086"/>
                </a:solidFill>
                <a:latin typeface="Georgia"/>
              </a:rPr>
              <a:t>Completion time, magnitude of task and difficulty of task</a:t>
            </a:r>
            <a:endParaRPr b="0" lang="en-US" sz="2000" spc="-1" strike="noStrike">
              <a:solidFill>
                <a:srgbClr val="438086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ctivity 2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336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Evaluating Students’ Answer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96720" y="518760"/>
            <a:ext cx="8475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Evaluating Students’ Answers </a:t>
            </a:r>
            <a:br>
              <a:rPr sz="3600"/>
            </a:b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26960" y="18684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ome pointers to take note when marking pap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stency in marking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ssess students’ understanding (what’s the tolerance level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Preparing students for assessment …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ive students enough information before assessing them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0520" indent="-2437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ime/dat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ontent area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Assessment conditions (duration, no. of test items, closed/open book) 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Types of test items (where’s the emphasis?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Weightage of different component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Give opportunity to practice expected performance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Clarify scoring of test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650520" indent="-24372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8086"/>
                </a:solidFill>
                <a:latin typeface="Georgia"/>
              </a:rPr>
              <a:t>How test results will be used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ummary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Guidelines for constructing marking scheme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nsiderations for evaluating students’ answer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eparing students for tes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34800" y="472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signment 1: Setting test pap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24000" y="1407960"/>
            <a:ext cx="8229600" cy="43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Part I: Constructing test paper should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e based on one topic in the physics syllabu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Have a time frame of 45 minute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Have a total of 30 marks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Consist of 10 MCQs (10 marks), two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Georgia"/>
              </a:rPr>
              <a:t>structured questions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(Section A type questions: 10 marks total) and one </a:t>
            </a:r>
            <a:r>
              <a:rPr b="0" lang="en-US" sz="1900" spc="-1" strike="noStrike" u="sng">
                <a:solidFill>
                  <a:srgbClr val="000000"/>
                </a:solidFill>
                <a:uFillTx/>
                <a:latin typeface="Georgia"/>
              </a:rPr>
              <a:t>“longer” structured w/free response </a:t>
            </a: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question or data-based question (Section B type questions: 10 marks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e complete with TOS and marking scheme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State topic, class level, ability group (in TOS)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34800" y="47268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Assignment 1: Setting test paper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324000" y="1407960"/>
            <a:ext cx="8229600" cy="433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Part II: Provide justification for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Choice of distractors for multiple-choice questions: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Choose three MCQs from the test paper and provide justifications for the choice of the distractors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Choice of questions for one short “structured” question: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 Choose one of the two short-answer questions. Explain your choice of question(s). You may provide make reference to the other questions of the paper in your justification.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Marking scheme for the longer “structured” /free response question</a:t>
            </a: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: Provide justification for the detailed mark allocation for each part of the free response question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1080" indent="-25272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407960" y="5840280"/>
            <a:ext cx="6523200" cy="6426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afbd"/>
                </a:solidFill>
                <a:latin typeface="Arial"/>
              </a:rPr>
              <a:t>DEADLINE: </a:t>
            </a:r>
            <a:r>
              <a:rPr b="1" lang="en-US" sz="1800" spc="-1" strike="noStrike">
                <a:solidFill>
                  <a:srgbClr val="67afbd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7afbd"/>
                </a:solidFill>
                <a:latin typeface="Arial"/>
              </a:rPr>
              <a:t>17 September 2009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7afbd"/>
                </a:solidFill>
                <a:latin typeface="Arial"/>
              </a:rPr>
              <a:t>Submit softcopy through BB (Safe Assignment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Justifying for distractors in MCQ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2249280"/>
            <a:ext cx="82296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What is the basis that help you decide on the choice of distractors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How do your distractors inform you about your students’ degree of understanding?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You may want to refer to the guidelines for choosing distractors.  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(e.g., </a:t>
            </a:r>
            <a:r>
              <a:rPr b="0" lang="en-US" sz="1200" spc="-1" strike="noStrike" u="sng">
                <a:solidFill>
                  <a:srgbClr val="67afbd"/>
                </a:solidFill>
                <a:uFillTx/>
                <a:latin typeface="Georgia"/>
                <a:hlinkClick r:id="rId1"/>
              </a:rPr>
              <a:t>http://www.utexas.edu/academic/diia/assessment/iar/students/plan/method/exams-mchoice-write.php</a:t>
            </a:r>
            <a:r>
              <a:rPr b="0" lang="en-US" sz="1200" spc="-1" strike="noStrike">
                <a:solidFill>
                  <a:srgbClr val="000000"/>
                </a:solidFill>
                <a:latin typeface="Georgia"/>
              </a:rPr>
              <a:t>) 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Justifying for choice of short structured question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You may wish to explain your choice of question in terms of: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ent (single or integrat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ontext (real vs decontextualized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Mode of representation (text, graph, table, diagram, etc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Number/theme of sections/sub-section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Progression of questions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Tasks (standard and degree of difficulty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Wording (if applicable)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You may need to refer to the other questions for some of the above issues. 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401560"/>
            <a:ext cx="84582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Constructing Marking Scheme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subTitle"/>
          </p:nvPr>
        </p:nvSpPr>
        <p:spPr>
          <a:xfrm>
            <a:off x="457200" y="3900600"/>
            <a:ext cx="49528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Justifying for marking scheme 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You may wish to explain how you decide on the marking scheme: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intaining standard (what is acceptable or not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lancing norm/criterion reference (discrimination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ther issues (time/difficulty/magnitude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26960" y="699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Marking Schem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600200"/>
            <a:ext cx="8229600" cy="49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hows answers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hows how marks are distributed specifically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hould be as objective as possible to minimise variation that might result from differences in interpretat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Must accommodate all correct responses to a question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hould be written before paper is administered and happens at the same time as questions are set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Decide on guidelines which inform how marks will be award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Basic Codes for Mark Allocation </a:t>
            </a:r>
            <a:br>
              <a:rPr sz="1600"/>
            </a:br>
            <a:r>
              <a:rPr b="0" lang="en-US" sz="1800" spc="-1" strike="noStrike">
                <a:solidFill>
                  <a:srgbClr val="424456"/>
                </a:solidFill>
                <a:latin typeface="Trebuchet MS"/>
              </a:rPr>
              <a:t>(as used in GCE exams)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41200" y="1600200"/>
          <a:ext cx="8701200" cy="3951360"/>
        </p:xfrm>
        <a:graphic>
          <a:graphicData uri="http://schemas.openxmlformats.org/drawingml/2006/table">
            <a:tbl>
              <a:tblPr/>
              <a:tblGrid>
                <a:gridCol w="582840"/>
                <a:gridCol w="1709640"/>
                <a:gridCol w="6408720"/>
              </a:tblGrid>
              <a:tr h="100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B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dependent mar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nswer mar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ward if answer is seen with no working, then full mark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ompensation mar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is always followed by an A mar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is given automatically if answer is correct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- is given if the answer is wrong but the point is seen in the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working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ethod mark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This must be awarded for marks after it to be given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Basic Codes used in GCE marking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457200" y="1600200"/>
          <a:ext cx="8229600" cy="4602240"/>
        </p:xfrm>
        <a:graphic>
          <a:graphicData uri="http://schemas.openxmlformats.org/drawingml/2006/table">
            <a:tbl>
              <a:tblPr/>
              <a:tblGrid>
                <a:gridCol w="550800"/>
                <a:gridCol w="1617840"/>
                <a:gridCol w="6060960"/>
              </a:tblGrid>
              <a:tr h="462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cf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Error carried forward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Full credit for subsequent correct calculation if a previous answer used for the calculation is wrong.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pplies only within a single section (e.g., (a) or (b) and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 from one to another section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applicable only to numerical answer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 applicable when accurate calculations follow 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incorrect formulae or substitution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not applicable to answers labeled “correct answer only”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may not be applied to impossible answers (e.g., T = -75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o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Arial"/>
                        </a:rPr>
                        <a:t>C)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39840" y="323640"/>
            <a:ext cx="8229600" cy="75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mple Question A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35" name="Picture 5" descr=""/>
          <p:cNvPicPr/>
          <p:nvPr/>
        </p:nvPicPr>
        <p:blipFill>
          <a:blip r:embed="rId1"/>
          <a:stretch/>
        </p:blipFill>
        <p:spPr>
          <a:xfrm>
            <a:off x="1003320" y="1058760"/>
            <a:ext cx="6531120" cy="5562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6" descr=""/>
          <p:cNvPicPr/>
          <p:nvPr/>
        </p:nvPicPr>
        <p:blipFill>
          <a:blip r:embed="rId2"/>
          <a:stretch/>
        </p:blipFill>
        <p:spPr>
          <a:xfrm>
            <a:off x="2228760" y="4662360"/>
            <a:ext cx="6327720" cy="8114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337" name="Picture 7" descr=""/>
          <p:cNvPicPr/>
          <p:nvPr/>
        </p:nvPicPr>
        <p:blipFill>
          <a:blip r:embed="rId3"/>
          <a:stretch/>
        </p:blipFill>
        <p:spPr>
          <a:xfrm>
            <a:off x="0" y="5781600"/>
            <a:ext cx="9144000" cy="8841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3880" y="4647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mple Question B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84120" y="158580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wo 4.0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Ω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resistors are connected in series to a 12 V battery. Calculate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buClr>
                <a:srgbClr val="a04da3"/>
              </a:buClr>
              <a:buFont typeface="Georgi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total resistance of the circuit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buClr>
                <a:srgbClr val="a04da3"/>
              </a:buClr>
              <a:buFont typeface="Georgi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buClr>
                <a:srgbClr val="a04da3"/>
              </a:buClr>
              <a:buFont typeface="Georgi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buClr>
                <a:srgbClr val="a04da3"/>
              </a:buClr>
              <a:buFont typeface="Georgi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buClr>
                <a:srgbClr val="a04da3"/>
              </a:buClr>
              <a:buFont typeface="Georgi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current supplied by the battery.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0" name="Rectangle 3"/>
          <p:cNvSpPr/>
          <p:nvPr/>
        </p:nvSpPr>
        <p:spPr>
          <a:xfrm>
            <a:off x="492120" y="3463920"/>
            <a:ext cx="8229600" cy="843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60240" indent="-660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+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eorgi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or 4.0 + 4.0              C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= 8.0 </a:t>
            </a:r>
            <a:r>
              <a:rPr b="0" lang="el-GR" sz="2400" spc="-1" strike="noStrike">
                <a:solidFill>
                  <a:srgbClr val="000000"/>
                </a:solidFill>
                <a:latin typeface="Georgia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                                A1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677880" y="5410080"/>
            <a:ext cx="7699320" cy="9932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 = IR in any symbolic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/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5 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4440" y="54900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Sample Answer 1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)   4.0 + 4.0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8.0 </a:t>
            </a:r>
            <a:r>
              <a:rPr b="0" lang="el-GR" sz="2800" spc="-1" strike="noStrike">
                <a:solidFill>
                  <a:srgbClr val="000000"/>
                </a:solidFill>
                <a:latin typeface="Georgia"/>
              </a:rPr>
              <a:t>Ω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(ii) 12/8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60240" indent="-6602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= 1.5 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0T08:41:34Z</dcterms:created>
  <dc:creator>acjyeo</dc:creator>
  <dc:description/>
  <dc:language>en-US</dc:language>
  <cp:lastModifiedBy>Jen</cp:lastModifiedBy>
  <dcterms:modified xsi:type="dcterms:W3CDTF">2010-01-23T14:41:08Z</dcterms:modified>
  <cp:revision>128</cp:revision>
  <dc:subject/>
  <dc:title>QCP 522 Teaching of Physics III</dc:title>
</cp:coreProperties>
</file>